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EB752-CF27-4F50-AAE1-F195F06E6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E0E5-1999-4200-AADC-5D5BDB96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A64BD-5D39-4F59-8101-A9083D146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C77C6-F569-4B93-98E9-75755B66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F252-37FC-4DE9-8195-4E4F44CB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92BF-D19F-43BE-81D1-382FFD67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F2F0-0A2E-47F1-8D12-86370F98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EDE3-9F72-4FAE-BE02-166931B7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F339-A080-45BD-9B68-0E16DD2C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CFDEB-4357-4820-ABD3-87FE1908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D61E-F469-40AD-A745-E2F0A86A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1720-866C-484A-92EE-24DA5DCEB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E686-29C5-458B-A403-70054EF295EB}"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114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1.3 Psych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3" name="Picture 2" descr=""/>
          <p:cNvPicPr/>
          <p:nvPr/>
        </p:nvPicPr>
        <p:blipFill>
          <a:blip r:embed="rId1"/>
          <a:stretch/>
        </p:blipFill>
        <p:spPr>
          <a:xfrm>
            <a:off x="888840" y="1341360"/>
            <a:ext cx="7417080" cy="5256360"/>
          </a:xfrm>
          <a:prstGeom prst="rect">
            <a:avLst/>
          </a:prstGeom>
          <a:ln w="0">
            <a:noFill/>
          </a:ln>
        </p:spPr>
      </p:pic>
      <p:pic>
        <p:nvPicPr>
          <p:cNvPr id="44" name="Picture 2" descr=""/>
          <p:cNvPicPr/>
          <p:nvPr/>
        </p:nvPicPr>
        <p:blipFill>
          <a:blip r:embed="rId2"/>
          <a:stretch/>
        </p:blipFill>
        <p:spPr>
          <a:xfrm>
            <a:off x="900000" y="1268280"/>
            <a:ext cx="7417080" cy="525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tretch/>
        </p:blipFill>
        <p:spPr>
          <a:xfrm>
            <a:off x="395280" y="1268280"/>
            <a:ext cx="8353440" cy="54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haviourists believe that psychologists can predict and control or modify human behaviour by identifying the factors that motivate it in the first pl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haviourists placed particular stress on the early childhood years, and the rules or practices parents use to raise their children because they believe these methods have a huge influence on the character of individuals even into adulth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harles B. Watson (1878-1958)</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2268360" y="1557360"/>
            <a:ext cx="4104000" cy="478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harles B. Wats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founder of behaviour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e used animal experiments to determine whether strict of flexible learning patterns are more effectiv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rote book “Psychological Care of the Infant and Child” concluded that children should be  brought up using a ‘scientific’, strictly scheduled, rules-based mode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njamin Spock (1903-1998)</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3" descr=""/>
          <p:cNvPicPr/>
          <p:nvPr/>
        </p:nvPicPr>
        <p:blipFill>
          <a:blip r:embed="rId1"/>
          <a:stretch/>
        </p:blipFill>
        <p:spPr>
          <a:xfrm>
            <a:off x="3059280" y="2276640"/>
            <a:ext cx="302544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njamin Spock</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believed that a permissive approach to child rearing, rather than a strict one, would result in successful, well-adjusted ad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encouraged parents to be loving, flexible and suppor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rrect child-rearing methods would result in well-adjusted ad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
          <p:cNvPicPr/>
          <p:nvPr/>
        </p:nvPicPr>
        <p:blipFill>
          <a:blip r:embed="rId1"/>
          <a:stretch/>
        </p:blipFill>
        <p:spPr>
          <a:xfrm>
            <a:off x="1187280" y="1268280"/>
            <a:ext cx="705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earning Theorists agree that humans are born with little instinct but much learning potent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y believe that most human behaviour is learned, especially in child and you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y controlling the way in which humans learn behaviours, society can have a great influence on their ultimate personaliti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lieve that children who were brought up in loving families would grow up to become secure and loving adults, but only if parents provided clear and consistent expectations for good behaviour, and swift but fair consequences for bad behaviou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rom Yesterda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hat is psych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pes of Psych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cal Schools of Tho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analytic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CA" sz="4000" spc="-1" strike="noStrike">
                <a:solidFill>
                  <a:srgbClr val="000000"/>
                </a:solidFill>
                <a:latin typeface="Calibri"/>
              </a:rPr>
              <a:t>B.F. Skinner (1904-1990)</a:t>
            </a:r>
            <a:br>
              <a:rPr sz="4000"/>
            </a:b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050920" y="1989000"/>
            <a:ext cx="5257800" cy="408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kinner- Learning Theor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kinner proved that pigeons could be trained to peck at a particular coloured disk to get food rewa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ats received food rewards for pressing specific levers in a complicated sequence leading many theorists to believe that learning was a </a:t>
            </a:r>
            <a:r>
              <a:rPr b="1" lang="en-CA" sz="3200" spc="-1" strike="noStrike">
                <a:solidFill>
                  <a:srgbClr val="000000"/>
                </a:solidFill>
                <a:latin typeface="Calibri"/>
              </a:rPr>
              <a:t>STIMULUS-RESPONSE</a:t>
            </a:r>
            <a:r>
              <a:rPr b="0" lang="en-CA" sz="3200" spc="-1" strike="noStrike">
                <a:solidFill>
                  <a:srgbClr val="000000"/>
                </a:solidFill>
                <a:latin typeface="Calibri"/>
              </a:rPr>
              <a:t>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kinner- Learning Theor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believed that if the subject is correctly stimulated it will give the appropriate respo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van Pavlov (1849-1936)</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
          <p:cNvPicPr/>
          <p:nvPr/>
        </p:nvPicPr>
        <p:blipFill>
          <a:blip r:embed="rId1"/>
          <a:stretch/>
        </p:blipFill>
        <p:spPr>
          <a:xfrm>
            <a:off x="1042920" y="1557360"/>
            <a:ext cx="734544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van Pavlov</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avlov’s experiments with dogs showed that is was possible to get a dog to associate the sound of a bell with the imminent arrival of 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 the sound of a bell, the dog would salivate in anticip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Bandura (Born in 1925)</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andura concluded that learning is largely a modeling experience and more complicated than a mere stimulus-response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hen humans observe behaviour – either acceptable or unacceptable – they are more likely to practice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Bandura</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periment- Bo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Question – What does this mean to us?  What applications can be made to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reud</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reud felt that individual sexual satisfaction or frustration was the key element in personality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Adler (1870-1937)</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250920" y="1700280"/>
            <a:ext cx="8713800" cy="47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Adler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dler believed that difficulties people encounter in gaining self-esteem and recognition, if not overcome by the normal means, lead to compensatory behaviour and resultant personality disorders which are now widely referred to as an </a:t>
            </a:r>
            <a:r>
              <a:rPr b="0" i="1" lang="en-CA" sz="3200" spc="-1" strike="noStrike">
                <a:solidFill>
                  <a:srgbClr val="000000"/>
                </a:solidFill>
                <a:latin typeface="Calibri"/>
              </a:rPr>
              <a:t>inferiority complex</a:t>
            </a:r>
            <a:r>
              <a:rPr b="0" lang="en-C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 (1875-1961)</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
          <p:cNvPicPr/>
          <p:nvPr/>
        </p:nvPicPr>
        <p:blipFill>
          <a:blip r:embed="rId1"/>
          <a:stretch/>
        </p:blipFill>
        <p:spPr>
          <a:xfrm>
            <a:off x="755640" y="1268280"/>
            <a:ext cx="7993080" cy="52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le for the identification of the </a:t>
            </a:r>
            <a:r>
              <a:rPr b="0" i="1" lang="en-CA" sz="3000" spc="-1" strike="noStrike">
                <a:solidFill>
                  <a:srgbClr val="000000"/>
                </a:solidFill>
                <a:latin typeface="Calibri"/>
              </a:rPr>
              <a:t>Extroverted</a:t>
            </a:r>
            <a:r>
              <a:rPr b="0" lang="en-CA" sz="3000" spc="-1" strike="noStrike">
                <a:solidFill>
                  <a:srgbClr val="000000"/>
                </a:solidFill>
                <a:latin typeface="Calibri"/>
              </a:rPr>
              <a:t> (outward-looking; outgoing; rely on others for sense of well being) and </a:t>
            </a:r>
            <a:r>
              <a:rPr b="0" i="1" lang="en-CA" sz="3000" spc="-1" strike="noStrike">
                <a:solidFill>
                  <a:srgbClr val="000000"/>
                </a:solidFill>
                <a:latin typeface="Calibri"/>
              </a:rPr>
              <a:t>Introverted</a:t>
            </a:r>
            <a:r>
              <a:rPr b="0" lang="en-CA" sz="3000" spc="-1" strike="noStrike">
                <a:solidFill>
                  <a:srgbClr val="000000"/>
                </a:solidFill>
                <a:latin typeface="Calibri"/>
              </a:rPr>
              <a:t> (inward-looking; emotionally self sufficient; well being comes from within) personality typ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other aspect of Jung's work which has been very influential is his approach to the analysis of drea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orked closely with Freud but split later in their care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sychoanalytic Theory</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hasizes individual counsell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rained practitioner leads patient to explore critical prior experi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Frequently those from childhoo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llows patients to explore and explain their understanding of self and oth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3:50:02Z</dcterms:created>
  <dc:creator>Jason</dc:creator>
  <dc:description/>
  <dc:language>en-US</dc:language>
  <cp:lastModifiedBy>Jason</cp:lastModifiedBy>
  <dcterms:modified xsi:type="dcterms:W3CDTF">2010-09-14T16:01:02Z</dcterms:modified>
  <cp:revision>8</cp:revision>
  <dc:subject/>
  <dc:title>1.3 Psychology</dc:title>
</cp:coreProperties>
</file>